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513-756B-4285-918C-C73A451F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82C-57DB-4291-89B4-B9E0DE99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2AD48-130C-4AB1-AC76-08885596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F0EBF-F1EA-4670-9359-4D8F0F90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5F3F0-FF6A-4D76-A66D-3EBB76E1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71846-B9F0-4535-86A5-24FBED27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DEA25-E3A4-4765-A066-B7232DD4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9E834-4A37-46DC-90A0-3EE20335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85785-D054-4556-9B1D-F97C8F9B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E41EB-5F73-4BDE-9C90-9039AC38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E4A67-3422-41D7-AEA5-9984B719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9F54C-C57E-4811-A137-305DBFDF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202-ADD3-4B9D-BBBF-1699E8F7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0570E-C49F-451B-9652-44F6A92F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CAEE6-A540-4929-B46B-2FBF03CE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10041-6E80-4818-9F6E-6CCB92D9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C2FCE-05F9-4DEE-B17F-9224D2D8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86FE9-2001-48E7-B646-D55E7D3A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D7777-4E59-4001-A2FC-BC04273A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11773-34E1-4011-AEC2-992F8D24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E85E5-D499-49CF-BFD3-577346E5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3A758-2FF3-49FF-85F3-DDFB6D6B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1B4BE-40DA-4E89-9E19-2B350FC1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16A-49C7-45DC-AC11-4102DE4B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53E64-1A6D-4C99-867E-CD500BF5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F92E-33DE-4C19-B90C-CC1D21AF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D62D-F92A-48F8-8BAC-6FF73E21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01DC-1049-4656-88B4-0E05C978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A1A2-A15E-4D34-99AC-F651CAB9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D8C0-7EE6-4EF4-9FD9-1614BDD9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400D-6895-4C3A-A205-ECFAF980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59F9-49D6-42F6-8DCB-D42FF73E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8A0-103C-47A1-9057-632D252E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D26C-22BB-4B61-958F-E6A764DC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8D3C-4575-4079-B043-7B10CAB4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71B9-04F9-4D1C-8B94-5D849357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7C28-9BBA-4239-9F02-CE26D618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1454-55A6-4C97-9EAD-6D1170FD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3F8-E978-40F5-8308-DAFAF240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FEC1F-B6F4-43FE-AF41-5B5AFD09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876D2-5E99-4551-BE25-3D84108A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8454-2976-4748-90BB-2ACA4A53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353-B8EB-40B9-8412-930807BC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6B655-9EFF-4181-B1F7-99C4A6FD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4C91D-A222-448B-87A5-53277CDA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08303-6DF3-4F1C-89BE-83E5BC11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421FC-4177-4A52-AADB-E97A6E56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37C00-E512-40FD-9CBF-6F0F3E40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8A0DE-CD8C-4443-BA05-690F4E84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6361F-77EA-4F8C-98A2-D4C9CD71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98CF6-8DB0-4769-AAE0-4991747A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3086-3F80-49C4-8934-14EA9F1D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2DB2D-3CD5-4EF7-B03B-0811377A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235-48AD-4219-93C2-E256B027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D9D3A-AFDF-46A3-A2E5-D29F0296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E94C0-056B-480E-9978-CA394BF4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424A5-122A-45DE-848D-24010750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22186-B738-4BE9-BC97-3C014CE4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B97FA-744C-4178-A7B4-5467583A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C76E0-5786-4CD4-9E77-FBD26DB1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B49ED-5C69-4D32-86B5-DD3E687A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41AEF-2A24-429E-864B-D901E337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58678-3176-477B-B2DA-39C78C5C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9959A-3545-479E-82A3-4DF2722C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59C-6EDF-4FE1-BBDE-DA99D7AE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BB40B-9064-41B0-8768-AF5C1A5A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3C553-DA34-4BAC-9424-9DDD90D8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BCD9F-F6F6-4509-BE35-475201BE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D6996-D42B-48EC-9FDC-705B38A9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DCADA-ED4B-48CD-8746-C4D5D7AE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0E73F-9ABB-49C5-85BD-73EE5A9D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6B9FB-70A6-445F-92F9-9BA10B04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64380-B5B4-48FC-A8A4-77D33CEF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2E0DF-3DE7-4E3B-9B8A-5938D50A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58B9C-7C37-49E1-ABFD-BEE34C25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909-B249-4C12-9B0D-EE5F639D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20D20-5EFD-4DDE-A977-174FC0AC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28CE9-8621-4FF0-9061-52AB101F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E46E8-D905-47D1-BD77-196F4D92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ED502-CCDB-4488-A1FE-3BA2CCF1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DA4D8-0E7E-4916-952E-F491FEDD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2498D-24BB-4664-8AA3-C72EF590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4AFB8-9F1E-424E-BF52-E24850C1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4D1A6-4079-43BA-A845-A3C415DD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CB1A9-796F-434E-9175-C14FC0A1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7786B-6FE6-4191-B545-88DCC2ED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FE1-6C36-4AFC-9753-363D33BD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76CEF-A262-4250-84F4-233D9AD6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CFDF9-5C13-4617-A130-924242AB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83E90-A6FA-48CA-A1C0-9BF45263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43A19-6272-4BDD-B59F-9DF8F7F7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2881D-520F-4A31-A327-695A2A0C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D24F2-CB22-4D81-BC12-1B02D761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9B475-89D7-4311-932E-C685BAFE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B8972-D6FA-44A9-B905-441E9E36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78F45-2438-409E-B211-60BC0258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86BAF-A3EE-4641-8867-325B8411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FEA-3B76-48F2-8083-683B5277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6C773-550F-4714-B34A-B3424CD7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204EA-5BB4-4310-B5AA-3AFB38D5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1237D-3D69-433D-9C34-5FCB0774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AC5C8-2C59-4358-9DD7-B8879736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F7138-DAC9-4068-83B5-F2AD4510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6F314-83EE-4553-A159-0EE9A1C2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AEC83-3B0A-44CD-BCA8-93B4178E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71DBF-E00B-4C08-9B73-E33F7499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2AEBE-39A3-477F-BB66-BBB8E5A6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8BD32-2B7A-4290-91A8-47888824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1B2A-CEAE-4465-BB84-856B2CD93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BA3F-9518-424A-98B1-BCCA21B84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4019-6423-4F33-B789-1A3CFBDA6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screenpic.GIF"/>
          <p:cNvPicPr/>
          <p:nvPr/>
        </p:nvPicPr>
        <p:blipFill>
          <a:blip r:embed="rId3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110A-4FD1-48EE-A9A4-F35B49B77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D892-1DE0-465F-968F-0BC3E7CCB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310B-36CE-4ADD-AF2E-8FC352897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2E82-B918-48D2-BE7D-DA31B34BE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6441-A5C6-4B16-93CC-A6D0A0993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4D00-1BD2-418C-A6E3-D4A73FACA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bjective: Students will be able to identify plagiarized information and understand that plagiarism is dishone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ing plagiarism by summarizing or paraphrasing means more than switching/adding/deleting a few w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giarism Example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Original text: 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oning may soon enable us to realize the dream of xenotransplantation, by making possible the production of </a:t>
            </a:r>
            <a:r>
              <a:rPr b="0" i="1" lang="en-US" sz="2600" spc="-1" strike="noStrike">
                <a:solidFill>
                  <a:srgbClr val="e46c0a"/>
                </a:solidFill>
                <a:latin typeface="Calibri"/>
              </a:rPr>
              <a:t>herds of genetically modified pig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t could provide </a:t>
            </a:r>
            <a:r>
              <a:rPr b="0" i="1" lang="en-US" sz="2600" spc="-1" strike="noStrike">
                <a:solidFill>
                  <a:srgbClr val="e46c0a"/>
                </a:solidFill>
                <a:latin typeface="Calibri"/>
              </a:rPr>
              <a:t>hearts, livers, and kidneys to human patients</a:t>
            </a:r>
            <a:r>
              <a:rPr b="0" lang="en-US" sz="26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o would otherwise die waiting for human organ transplants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Klotzko, 130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lagiarized version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on scientists will be able to use cloning techniques to create </a:t>
            </a:r>
            <a:r>
              <a:rPr b="0" i="1" lang="en-US" sz="2600" spc="-1" strike="noStrike">
                <a:solidFill>
                  <a:srgbClr val="e46c0a"/>
                </a:solidFill>
                <a:latin typeface="Calibri"/>
              </a:rPr>
              <a:t>herds of genetically modified pigs</a:t>
            </a:r>
            <a:r>
              <a:rPr b="0" lang="en-US" sz="26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order to give </a:t>
            </a:r>
            <a:r>
              <a:rPr b="0" i="1" lang="en-US" sz="2600" spc="-1" strike="noStrike">
                <a:solidFill>
                  <a:srgbClr val="e46c0a"/>
                </a:solidFill>
                <a:latin typeface="Calibri"/>
              </a:rPr>
              <a:t>hearts, livers, and kidneys to human patie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iting on the transplant lis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urce: Klotzko, Arlene Judith, ed. </a:t>
            </a:r>
            <a:r>
              <a:rPr b="0" i="1" lang="en-US" sz="1300" spc="-1" strike="noStrike">
                <a:solidFill>
                  <a:srgbClr val="000000"/>
                </a:solidFill>
                <a:latin typeface="Calibri"/>
              </a:rPr>
              <a:t>The Cloning Sourcebook.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Oxford: Oxford University Press, 2001. Print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ing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giarism means copying, stealing, or chea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plagiarize you are being academically dishonest and can be pun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void plagiarizing, take notes on what you found and where you found  it.  You will need these notes later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information correct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py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 must do your own work AND you must give credit when you use the work of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4" descr="MCj02908650000[1]"/>
          <p:cNvPicPr/>
          <p:nvPr/>
        </p:nvPicPr>
        <p:blipFill>
          <a:blip r:embed="rId1"/>
          <a:stretch/>
        </p:blipFill>
        <p:spPr>
          <a:xfrm>
            <a:off x="990720" y="1523880"/>
            <a:ext cx="2016000" cy="20764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C:\Users\Operator\AppData\Local\Microsoft\Windows\Temporary Internet Files\Content.IE5\PILW3NX2\MC900239695[1].wmf"/>
          <p:cNvPicPr/>
          <p:nvPr/>
        </p:nvPicPr>
        <p:blipFill>
          <a:blip r:embed="rId2"/>
          <a:stretch/>
        </p:blipFill>
        <p:spPr>
          <a:xfrm>
            <a:off x="6477120" y="1828800"/>
            <a:ext cx="17082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Plagiaris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rect plagiarism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ying something word for wor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lf-plagiarism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-using a paper that you wrote for another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Plagiaris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ident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ntentional plagiar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not citing your sources prope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us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iming credit for work someone else did for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happens if you plagiariz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are GUILTY of academic dishones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quences for plagiarizing may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ing all points on an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ing th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ulsion from scho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punishment will depend on the severity of the offense and your school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policy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4" descr="MCj02908850000[1]"/>
          <p:cNvPicPr/>
          <p:nvPr/>
        </p:nvPicPr>
        <p:blipFill>
          <a:blip r:embed="rId1"/>
          <a:stretch/>
        </p:blipFill>
        <p:spPr>
          <a:xfrm>
            <a:off x="6858000" y="3733920"/>
            <a:ext cx="16653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why do people plagiariz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don't know what they're doing is wro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're tir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're behi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're stressed o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 dishon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Picture 7" descr="C:\Users\Operator\AppData\Local\Microsoft\Windows\Temporary Internet Files\Content.IE5\PILW3NX2\MC900368632[1].wmf"/>
          <p:cNvPicPr/>
          <p:nvPr/>
        </p:nvPicPr>
        <p:blipFill>
          <a:blip r:embed="rId1"/>
          <a:stretch/>
        </p:blipFill>
        <p:spPr>
          <a:xfrm>
            <a:off x="6172200" y="3276720"/>
            <a:ext cx="1932120" cy="1307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2" descr="C:\Users\Operator\AppData\Local\Microsoft\Windows\Temporary Internet Files\Content.IE5\AK5KHZUF\MC900230545[1].wmf"/>
          <p:cNvPicPr/>
          <p:nvPr/>
        </p:nvPicPr>
        <p:blipFill>
          <a:blip r:embed="rId2"/>
          <a:stretch/>
        </p:blipFill>
        <p:spPr>
          <a:xfrm>
            <a:off x="2819520" y="4800600"/>
            <a:ext cx="11142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avoid plagia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track of your research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quotations, summaries or paraphr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't copy and paste!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procrastinat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Picture 3" descr="C:\Users\Operator\AppData\Local\Microsoft\Windows\Temporary Internet Files\Content.IE5\G505IBG5\MC900432573[1].png"/>
          <p:cNvPicPr/>
          <p:nvPr/>
        </p:nvPicPr>
        <p:blipFill>
          <a:blip r:embed="rId1"/>
          <a:stretch/>
        </p:blipFill>
        <p:spPr>
          <a:xfrm>
            <a:off x="2590920" y="441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C:\Users\Operator\AppData\Local\Microsoft\Windows\Temporary Internet Files\Content.IE5\AK5KHZUF\MC900434810[1].png"/>
          <p:cNvPicPr/>
          <p:nvPr/>
        </p:nvPicPr>
        <p:blipFill>
          <a:blip r:embed="rId2"/>
          <a:stretch/>
        </p:blipFill>
        <p:spPr>
          <a:xfrm>
            <a:off x="6019920" y="3429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I have to give credit for everything I writ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.  You do not have to give credit for information that is considered common knowledge, for examp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orge Bush is a Republican from Tex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t Lake City is the capital of Uta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ile is a river in Egyp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f you use someone's idea or their interpretation of an idea or event, then you must give cred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giarism Example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iginal text: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r league baseball historically is </a:t>
            </a:r>
            <a:r>
              <a:rPr b="0" i="1" lang="en-US" sz="3200" spc="-1" strike="noStrike">
                <a:solidFill>
                  <a:srgbClr val="e46c0a"/>
                </a:solidFill>
                <a:latin typeface="Calibri"/>
              </a:rPr>
              <a:t>as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e46c0a"/>
                </a:solidFill>
                <a:latin typeface="Calibri"/>
              </a:rPr>
              <a:t>American as drive-in movies and Fourth of July parad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It is still </a:t>
            </a:r>
            <a:r>
              <a:rPr b="0" i="1" lang="en-US" sz="3200" spc="-1" strike="noStrike">
                <a:solidFill>
                  <a:srgbClr val="e46c0a"/>
                </a:solidFill>
                <a:latin typeface="Calibri"/>
              </a:rPr>
              <a:t>small-town U.S.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, in feel if not in fact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ielly 206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giariz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aseball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minor leagues are historically </a:t>
            </a:r>
            <a:r>
              <a:rPr b="0" i="1" lang="en-US" sz="3200" spc="-1" strike="noStrike">
                <a:solidFill>
                  <a:srgbClr val="e46c0a"/>
                </a:solidFill>
                <a:latin typeface="Calibri"/>
              </a:rPr>
              <a:t>as American as drive-in movies and Fourth of July parades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n in </a:t>
            </a:r>
            <a:r>
              <a:rPr b="0" i="1" lang="en-US" sz="3200" spc="-1" strike="noStrike">
                <a:solidFill>
                  <a:srgbClr val="e46c0a"/>
                </a:solidFill>
                <a:latin typeface="Calibri"/>
              </a:rPr>
              <a:t>small-town U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urce: Rielly, Edward J. </a:t>
            </a:r>
            <a:r>
              <a:rPr b="0" i="1" lang="en-US" sz="1300" spc="-1" strike="noStrike">
                <a:solidFill>
                  <a:srgbClr val="000000"/>
                </a:solidFill>
                <a:latin typeface="Calibri"/>
              </a:rPr>
              <a:t>Baseball: An Encyclopedia of Popular Culture.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anta Barbara, CA: ABC-CLIO, 2000. Print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9:57:09Z</dcterms:created>
  <dc:creator>Operator</dc:creator>
  <dc:description/>
  <dc:language>en-US</dc:language>
  <cp:lastModifiedBy>Laurel Harris</cp:lastModifiedBy>
  <dcterms:modified xsi:type="dcterms:W3CDTF">2013-09-09T13:58:12Z</dcterms:modified>
  <cp:revision>15</cp:revision>
  <dc:subject/>
  <dc:title>Slide 1</dc:title>
</cp:coreProperties>
</file>